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8DA-2524-43C5-9063-B2AB743F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417-E4B2-4D25-A6E8-22C51183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D8D-8DCB-4F6B-B589-78AAB442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984-0C17-4BBB-99EB-0010EBAA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48A65-B62C-4A69-B698-2036F8EBA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6907C-4D7E-44ED-934D-34ECF14F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59D79-5845-4D65-9B57-1D56CAE3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29ED8-1BB9-4DEF-A434-56943BB9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3FFE0-EAAD-400C-953B-EBB49E0E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96F32-96E3-4A6F-8F2D-D7DD0FF7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F30F0-4FA3-4D1A-826A-8291C3C9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6A3-3943-4B18-8796-CA0782DC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E01F7-52BB-49EB-B352-39EEDB78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D1B30-BFE0-45A3-9F11-D3091EA3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74B58-2667-49D3-98A6-192B7359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31F4A-2320-465F-A22D-FD8D8B9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85A64-E5BB-42AC-9D37-9EAB2BBEF4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6AF-F320-4147-87B2-2B70192B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A13-A7E0-4739-B975-741B3B0D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B14-36B7-4E23-AE07-431AC56E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7A9-95A8-4CEA-AFF9-2B3E204F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237-B256-4F00-8A9C-56F7BD1A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FDD-63C1-4767-A339-2A801E47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C24-134B-4FF3-B626-8E2AA3A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5F62B-087A-4668-B8DA-B2C6A3E0EEC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EE95C-52E6-4A16-B449-2BA050E836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4609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019920"/>
            <a:ext cx="21337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56A87-552C-42CD-8F5A-121EEFA6A7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2 – Congres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235240" y="1720800"/>
            <a:ext cx="46958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eating Incumb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e tarnished by scandal or corruption becomes vulnerable to a challeng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istricting may weaken the incumbency advant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jor political tidal wave may defeat incumb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n Se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eater likelihood of 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st turnover occurs in open sea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bility and Chan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umbents provide stability in Congr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nge in Congress occurs less frequently through el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term limits an answer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epresentatives and Sena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Jo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ary of $168,500 with retirement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fice space in D.C. and at home with staf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vel allowances and franking privile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long hours, a lot of time away from family, and pressure from others to support their polic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epresentatives and Sena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17" descr=""/>
          <p:cNvPicPr/>
          <p:nvPr/>
        </p:nvPicPr>
        <p:blipFill>
          <a:blip r:embed="rId2"/>
          <a:srcRect l="29376" t="28084" r="28750" b="13000"/>
          <a:stretch/>
        </p:blipFill>
        <p:spPr>
          <a:xfrm>
            <a:off x="950760" y="1828800"/>
            <a:ext cx="724068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 Wins Election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umbents: Those already holding offi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708660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dvantages of Incumb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goal is to be visible to your constitu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equent trips home, use of newsletter, and technolo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dit Claim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rvice to constituents through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sework: specifically helping constituents get what they think they have a right 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rk Barrel: federal projects, grants, etc. made available in a congressional district or sta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dvantages of Incumb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sition Tak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rtray themselves as hard working, dedicated individu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ccasionally take a partisan stand on an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ak Opponent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experienced in politics, unorganized, and underfund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mpaign Spend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allengers need to raise large sums to defeat an incumb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s give most of their money to incumb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es PAC money “buy” votes in Congres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ole of Party Ident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st members represent the majority party in their district, and most who identify with a party reliably vote for its candid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rrymandering: manipulate the boundaries of (an electoral constituency) so as to favor one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2"/>
          <a:stretch/>
        </p:blipFill>
        <p:spPr>
          <a:xfrm>
            <a:off x="2670120" y="307800"/>
            <a:ext cx="420696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llinois’ 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Congressional Distri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204920" y="1417680"/>
            <a:ext cx="67309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44:09Z</dcterms:created>
  <dc:creator>Katie Madison</dc:creator>
  <dc:description/>
  <dc:language>en-US</dc:language>
  <cp:lastModifiedBy>Katie Madison</cp:lastModifiedBy>
  <dcterms:modified xsi:type="dcterms:W3CDTF">2011-01-06T20:14:12Z</dcterms:modified>
  <cp:revision>3</cp:revision>
  <dc:subject/>
  <dc:title>Congressional Elections</dc:title>
</cp:coreProperties>
</file>